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E87-134C-4C5B-81BC-BDA19975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BB3-EDB5-4EFC-929F-8697B077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845-CABA-4F14-AE3E-6F8B9814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D30-C709-4AB5-9B10-BB8C2E7F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154-07F2-4619-A613-2E6208CB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C33-550E-4DD2-9AE0-C5CA8FE0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2EC-FC6B-4DCE-8537-0874EEEC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78D-54D1-4892-A615-F035541F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89E-33F5-4983-B067-5A5D9814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3A4-1BC5-4F00-A162-84B83534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96E-C77E-4549-A359-EA1704F9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E23-077F-45F5-B99B-97D26E29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0B9B-BBB0-4F65-8398-020B66851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AC Futura Casual"/>
              </a:rPr>
              <a:t>Me llamo _________ Clase 6 NH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CAC Futura Casual"/>
              </a:rPr>
              <a:t>La fecha es el 13 de enero del 2012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Propósito # 32: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Cómo eres tú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Actividad Inicial: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Copia y completa con el pronombre correcto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he)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 __________ es alt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	</a:t>
            </a: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I)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__________ soy muy cómic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we)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 __________ somos simpático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they [girls])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 __________ son bonita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5880" y="3276720"/>
            <a:ext cx="1143000" cy="69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67480" y="3733920"/>
            <a:ext cx="91440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077320" y="4419720"/>
            <a:ext cx="582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010280" y="5410080"/>
            <a:ext cx="16002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Practica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Lee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Conversacion: ¿De dónde son?</a:t>
            </a: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 p. R4, en voz alta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¿Comprendes?</a:t>
            </a: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 p. R4 (1-5)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WORKBOOK: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Completa p. R1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276720"/>
            <a:ext cx="8001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Tarea # 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4:27:43Z</dcterms:created>
  <dc:creator>Helen Zumaeta</dc:creator>
  <dc:description/>
  <dc:language>en-US</dc:language>
  <cp:lastModifiedBy>Helen Zumaeta</cp:lastModifiedBy>
  <dcterms:modified xsi:type="dcterms:W3CDTF">2012-01-13T20:51:33Z</dcterms:modified>
  <cp:revision>5</cp:revision>
  <dc:subject/>
  <dc:title>Me llamo _________ Clase 6 NH La fecha es el 13 de enero del 2012</dc:title>
</cp:coreProperties>
</file>